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1.png" ContentType="image/png"/>
  <Override PartName="/ppt/media/type.wav" ContentType="audio/x-wav"/>
  <Override PartName="/ppt/media/image17.png" ContentType="image/png"/>
  <Override PartName="/ppt/media/image8.gif" ContentType="image/gif"/>
  <Override PartName="/ppt/media/image7.gif" ContentType="image/gif"/>
  <Override PartName="/ppt/media/image10.jpeg" ContentType="image/jpeg"/>
  <Override PartName="/ppt/media/image9.wmf" ContentType="image/x-wmf"/>
  <Override PartName="/ppt/media/image6.gif" ContentType="image/gif"/>
  <Override PartName="/ppt/media/image22.gif" ContentType="image/gif"/>
  <Override PartName="/ppt/media/image21.png" ContentType="image/png"/>
  <Override PartName="/ppt/media/image4.png" ContentType="image/png"/>
  <Override PartName="/ppt/media/image19.gif" ContentType="image/gif"/>
  <Override PartName="/ppt/media/image18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3.jpeg" ContentType="image/jpeg"/>
  <Override PartName="/ppt/media/image20.gif" ContentType="image/gif"/>
  <Override PartName="/ppt/media/image3.gif" ContentType="image/gif"/>
  <Override PartName="/ppt/media/image2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9E5-8B7E-449B-B914-22852D6D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8CD-EB87-4A42-8602-9FC2367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88157-F994-4FCE-9419-9805C80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F6816-D25F-4951-95F3-F974886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C7E61-AAA4-4E10-9C81-0EAFA89A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79825-B73C-4631-BB96-6527D5F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7A50A-3A79-4430-9D01-21D5A8C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8D6F3D-7BDA-4E7E-8CE3-5C95DEC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FC3CC-152F-4D9F-BF25-9CA79C4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F0EDA-3ECB-4DCB-A7F3-98843579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77391-FF8E-4C6D-AF07-FAD862AB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248-ECDD-4DB3-9CBA-59BBA12B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CA7-AAD6-43AA-93E1-2A2BF95D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461-795D-4852-B32C-C17228E2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4D80-40E4-4876-8B32-50B8BAD4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F519-6031-4759-B057-C164C90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AEF-7522-4FB2-9EAB-3142982E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4D7-9B00-422B-8B1A-59C82CE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449F-0B64-44BB-858E-05D9F1B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08B3-C873-4780-AD1E-A689C67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426-D8ED-4D1C-88DA-E9CFF71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7628-F916-4EA4-B3E0-F40CB88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776B-FEFE-4BF4-AA3D-C734737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428-6EB6-46FD-820D-2DCAF29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7235-A721-48A8-A3F7-5A01FE50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6185-A3EA-476C-B5B5-ADA0BAA8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C451-DDD2-4ABE-AE1B-A0CDC868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0A64-EC8F-435F-9B3E-074BEF6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643D-37BA-4A1F-BF79-A1BB810B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74A3-886A-4FBD-A5C3-01785B7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9B25-C1D5-4018-AF79-9D226ED9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E9D-0E96-4B09-BB43-EDCBCA5E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3EA8-5D8C-46DB-9D46-B6D2D79B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E30B-8EBA-40BE-A744-8537679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7DD7-C9F4-4D9F-9AE6-CD8801C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7EDB-4A1A-450A-9376-FD9EFC5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D679-4B8E-429E-9C95-18A26D3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C3C9-8914-48DB-8C3B-D2DBB38D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89FB-55D9-4A0D-A58E-CF86BF90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6963-5393-4A3F-AEFE-B7BE4551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802F-E5C8-4FE2-9BE2-A667FD5B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CA7F-040A-4BBE-A293-A76462B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A01-227C-45C7-AD79-C8F443E6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3C02-74C4-4C76-894E-853ECD25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D189-45B9-4E90-9DC1-82C1AC4D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31BA-7BE5-43E3-8A58-0A8041E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EEAC-4CD6-4C64-B8B8-EDF5BAB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64A9-D1D5-45D4-A7CE-6446ABA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0E64-D147-452B-979D-95227DE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05E6-D4FE-4123-A21D-020A6B28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18D3-3504-4BDD-B5F5-74960C2E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E0EE-0D62-468C-84A5-0947806F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9B509-F51C-4ABB-BD65-104148B2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CE6-7B79-4B76-B840-7DC42EC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9695-5176-4526-8FC4-612B4B7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D6EA-FEA4-4797-9F12-85E4B8F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33F9-2E69-4593-9553-6DDD67C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6D5A-DA21-4BB6-BC3A-F32448CC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CD8E-798E-4E51-A00B-5C36D55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5D05-7BDA-439C-9A89-752531E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F7B9-486A-405B-BACB-6293BDE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7ABF-35D8-4327-B037-DDE0AD8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820D-891A-46D4-9B97-1D192B34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B5D9-C159-4218-943D-D33FDEE7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612-E826-4815-8E45-3BB38CC7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2225-35A1-4A75-AE7A-6A11DD47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CAB2-4983-4969-A2D1-DD611217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5803-B78C-4D80-9496-00B59E7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2DE9-6B7A-4599-A2E8-F8FBA7F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781B-D39C-4243-8AEC-A19AFC0F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6E1C-7E43-499C-974B-9DB9D859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1F3B-3496-4C98-948D-F225E0C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C6FB-6326-448F-A735-1F0A6FE8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09DB-DF9E-4E50-889B-7DDA9AD8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E1E0-DFDE-4D9E-9E4C-B330451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48B-85AF-4A64-8339-23C0273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38A6-0488-4306-8E7A-E14A8948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4592-1532-4B1B-A509-8EBC5EDB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B422-49A8-40C5-8C6E-E476B183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1AEF-FB8A-4FA2-BEAB-C441D414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49B1D-3774-49E5-8208-09F7F5D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24B0F-A8D9-4D06-8B35-6959828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3F6E-C765-46F3-9204-DCBB5F6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7D0D-E482-402B-945B-C8EA81B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8C0C-4A86-4C39-8072-F53486F0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FBFF-87E8-4265-8418-549C6BE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FE0-A8DF-4DCD-A066-A97EF9B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7163-65C9-493D-8C5A-19D4D36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D04D-03CE-4CFF-AFC6-4C716290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F2F2-F470-4D8F-B58A-7795BB0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4258-FCEC-4290-9B6F-D8AD4338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E479E-D2BB-407B-A85F-936451F3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8F3E-6ABC-4136-B76D-0D1D702B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66356-E89D-423D-860B-BC3BAE8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A642-7DDE-4037-9A60-109FF5D4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4E3D-93FC-4256-AD3D-2F98F58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FA7B0-CBBE-46EC-A51E-2FC394D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279-F3F1-43CE-B33A-350558D5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E48A-D1C5-4EEE-933F-A3C0C130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B24C9-AA1E-46A5-8321-D1EF655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67FC-235F-4FC2-BB8F-303B6D9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F16A8-EF0C-47C2-9392-045BB57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E5C2-C5F4-4E3F-B2AC-A1CFDAB8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7020F-885D-4FDA-A9B3-D280CB6E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11B4C-025B-477D-842B-72178BFB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76BA1-5999-4DB5-ABDF-26205B17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8BCED-54C1-4047-AFB8-31FA34F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CD737-34EB-4F67-9818-3D644DF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7F2-889C-465B-B989-3D844D73B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B5F-CF2F-4C43-A587-CACD6AFFD5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181C-F370-44F1-B07C-869D29C3BF1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33EB-2E3F-46B3-8CA2-9DED8DE45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5CF-341C-48C1-A5D4-CC667D0B8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7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7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31A-7D22-49D0-89C3-527D9CB99B2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5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5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67A-1FFE-4E2A-B7C1-C2F82FA317C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2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2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1BE7-A98A-49EE-8E5D-CB875AECF85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8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AE57-08B2-48DA-BD84-958287E64BD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3200400" cy="31417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11480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 txBox="1"/>
          <p:nvPr/>
        </p:nvSpPr>
        <p:spPr>
          <a:xfrm>
            <a:off x="1371600" y="1752480"/>
            <a:ext cx="6934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隶书"/>
              </a:rPr>
              <a:t>家长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2666880" cy="7920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2590920" y="4343400"/>
            <a:ext cx="3708360" cy="765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8"/>
          <a:stretch/>
        </p:blipFill>
        <p:spPr>
          <a:xfrm>
            <a:off x="0" y="228600"/>
            <a:ext cx="27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最值得骄傲的同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95280" y="2276640"/>
            <a:ext cx="518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勤奋的同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9" name=""/>
          <p:cNvSpPr/>
          <p:nvPr/>
        </p:nvSpPr>
        <p:spPr>
          <a:xfrm>
            <a:off x="217440" y="3213000"/>
            <a:ext cx="892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陈婷婷  林葆葆  刘卉 舒岚 梁珉珉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71640" y="1330200"/>
            <a:ext cx="287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李西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11280" y="4076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最具潜力的同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02" name=""/>
          <p:cNvSpPr/>
          <p:nvPr/>
        </p:nvSpPr>
        <p:spPr>
          <a:xfrm>
            <a:off x="684360" y="50133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庄嘉伟    潘培杰   倪雪杨    朱俊卫   胡元杰   梁启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 txBox="1"/>
          <p:nvPr/>
        </p:nvSpPr>
        <p:spPr>
          <a:xfrm>
            <a:off x="755640" y="333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进步最大的同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7" name=""/>
          <p:cNvSpPr/>
          <p:nvPr/>
        </p:nvSpPr>
        <p:spPr>
          <a:xfrm>
            <a:off x="1187280" y="2492280"/>
            <a:ext cx="66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庄嘉伟   陈婷婷   林葆葆   潘培杰   倪雪杨   谢银霞   林冬怡   刘祉昕   庄伟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140840" y="404640"/>
            <a:ext cx="66178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由考试成绩可以看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对来说，我班学生理科成绩较差。尤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进入初二学习了物理以后，许多同学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很吃力。其中女同学居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总分和总排名来说，女同学的成绩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男同学要好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偏科现象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一个同学各科都是全班的前茅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35512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+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后进生给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06040" y="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班级收支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9280" y="517680"/>
            <a:ext cx="820908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   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初一荣获学校“文明班集体”称号，学校奖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本学期二月份荣获学校“文明班集体”称号，学校奖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共计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出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师节贺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2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订英语竞赛试卷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物理实验凸透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校运会药品、饮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3+45+45=15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文具磁铁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X2=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男生足球班际赛用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X20=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青春艺术节租表演衣服、道具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上学期期中及各单元表彰奖品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+40=1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本学期男、女生班际篮球联赛用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4X6=14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本学期第一、第二单元及上学期期末表彰优秀奖品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计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。     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20968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现在已步入一个平稳的发展时期，没有了刚开学时中学生活的新奇和暂时压力，也没有初三面临毕业升学，择业的两难选择的压力，处于一个相对平稳的时期，这一时期是潜心努力学习的时期，也是一个产生剧烈变化的时期，更是一个危险的时期，也是一个爬坡的时期，是一个分水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-64080" y="1125360"/>
            <a:ext cx="1826280" cy="29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身心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85800" y="360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12-16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岁年龄段上，教育学和心理学把这一阶段称为“少年期”这段时间上，心理和生理变化比较迅速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身心各方面都比较矛盾。父母要高度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重视对这一关键期和危险期的监护和把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一时期他们精力充沛，好奇心强，任何事总想试一试，但他们的愿望与自己的实际能力是有很大的矛盾的，他们的独立性增强了，总想摆脱对老师和家长的信赖，总认为自己不是孩子了。有事不愿和父母及师长交流，处于一种半封闭状态，和同龄人诉说又冒着曝光的危险，所以他们感觉没有朋友没有人可以理解他们，特别是处于青春期的女生这种会更加强烈。他们的情感很脆弱，最容易冲动，做事也很莽撞，后果意识能力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295280" y="15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这一时期的另一显著特点是生理发育的逐步成熟，他们一方面为自己身体各部分的发育感到新奇，另一方面又充满羞涩和不安，不愿让父母进自己的房间了，有自己的秘密了。心理上的表现是容易兴奋和冲动，神经敏感，产生了爱情的萌芽，大多数早恋的孩子是发生在这一时期，在这一时期，作为家长要高度重视，决不能有不良的刺激对孩子产生影响，要注意从家庭生活到电影，电视节目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定要有适度的选择。冲动是他们这个时期的最大特征，好奇是他们一生中的高峰。他们虽达不到辨析是非的能力，但很自信，自我抑制能力在这段时间最低。所以父母一定要加强教育和引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2520" y="7977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身心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210040" y="1844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谈谈家庭教育的必要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0" y="3573360"/>
            <a:ext cx="914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父母是孩子的第一任老师，也是最好的老师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39640" y="4762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尽量表扬孩子，孩子具有一定的自信心，才会肯去学习要使孩子每天都感觉到他在学习上取得了一定进步，哪怕是改正一个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8360" y="177336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多关心孩子的学习内容和实际进步程度，家长要多询问孩子最近学习了什么掌握得如何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8360" y="27082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9640" y="4941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 要有恰当的教育方法，对待孩子要有耐心，不能经常打骂。那样只会激起孩子的抵触心理，事与愿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39640" y="4005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订下家庭学习规矩，并且自始至终执行，以形成良好的学习习惯，作息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9640" y="0"/>
            <a:ext cx="7239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创造和睦、祥和、稳定的家庭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437640" y="633888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家长要以身作则，给孩子做出榜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762120" y="1523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685800"/>
            <a:ext cx="335268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尊敬的各位家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276720" cy="28987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4114800" y="52578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547640" y="126828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控制好上学放学时间及业余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尤其是上网的时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476360" y="2781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严格控制孩子的零花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547640" y="357336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反对同学聚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过生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76360" y="43657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双休日期间尽量少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76360" y="5157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加强与班主任和任课老师的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建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85800" y="2568600"/>
            <a:ext cx="3776760" cy="21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5" name=""/>
          <p:cNvGraphicFramePr/>
          <p:nvPr/>
        </p:nvGraphicFramePr>
        <p:xfrm>
          <a:off x="4648320" y="1600200"/>
          <a:ext cx="4038480" cy="51753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468360" y="1628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考科目及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324000" y="2492280"/>
          <a:ext cx="14579280" cy="20098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  <a:gridCol w="857160"/>
                <a:gridCol w="857520"/>
                <a:gridCol w="857160"/>
                <a:gridCol w="857160"/>
                <a:gridCol w="857160"/>
                <a:gridCol w="857520"/>
                <a:gridCol w="858600"/>
                <a:gridCol w="857520"/>
                <a:gridCol w="858600"/>
                <a:gridCol w="857520"/>
                <a:gridCol w="858600"/>
                <a:gridCol w="857160"/>
                <a:gridCol w="858960"/>
                <a:gridCol w="85716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科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体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分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9" name=""/>
          <p:cNvSpPr txBox="1"/>
          <p:nvPr/>
        </p:nvSpPr>
        <p:spPr>
          <a:xfrm>
            <a:off x="611280" y="333360"/>
            <a:ext cx="53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考信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1619280" y="19065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-992160" y="415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395280" y="1628640"/>
          <a:ext cx="8137440" cy="4870440"/>
        </p:xfrm>
        <a:graphic>
          <a:graphicData uri="http://schemas.openxmlformats.org/drawingml/2006/table">
            <a:tbl>
              <a:tblPr/>
              <a:tblGrid>
                <a:gridCol w="1943280"/>
                <a:gridCol w="1223640"/>
                <a:gridCol w="1297080"/>
                <a:gridCol w="1224000"/>
                <a:gridCol w="1368360"/>
                <a:gridCol w="10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学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费择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学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华师附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划内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省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自费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执信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雅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二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七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铁一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"/>
          <p:cNvSpPr/>
          <p:nvPr/>
        </p:nvSpPr>
        <p:spPr>
          <a:xfrm>
            <a:off x="468360" y="47628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广州市中考录取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9" name=""/>
          <p:cNvGraphicFramePr/>
          <p:nvPr/>
        </p:nvGraphicFramePr>
        <p:xfrm>
          <a:off x="4648320" y="1600200"/>
          <a:ext cx="4038480" cy="51753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1" name=""/>
          <p:cNvGraphicFramePr/>
          <p:nvPr/>
        </p:nvGraphicFramePr>
        <p:xfrm>
          <a:off x="0" y="260280"/>
          <a:ext cx="8893080" cy="6201000"/>
        </p:xfrm>
        <a:graphic>
          <a:graphicData uri="http://schemas.openxmlformats.org/drawingml/2006/table">
            <a:tbl>
              <a:tblPr/>
              <a:tblGrid>
                <a:gridCol w="1692360"/>
                <a:gridCol w="1271520"/>
                <a:gridCol w="1482840"/>
                <a:gridCol w="1482480"/>
                <a:gridCol w="1481400"/>
                <a:gridCol w="14824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大附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协和高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六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培正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育才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十七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培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鹤洞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鹤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4" name=""/>
          <p:cNvGraphicFramePr/>
          <p:nvPr/>
        </p:nvGraphicFramePr>
        <p:xfrm>
          <a:off x="4648320" y="1600200"/>
          <a:ext cx="4038480" cy="51753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6" name=""/>
          <p:cNvGraphicFramePr/>
          <p:nvPr/>
        </p:nvGraphicFramePr>
        <p:xfrm>
          <a:off x="0" y="260280"/>
          <a:ext cx="8893080" cy="6459480"/>
        </p:xfrm>
        <a:graphic>
          <a:graphicData uri="http://schemas.openxmlformats.org/drawingml/2006/table">
            <a:tbl>
              <a:tblPr/>
              <a:tblGrid>
                <a:gridCol w="1692360"/>
                <a:gridCol w="1271520"/>
                <a:gridCol w="1482840"/>
                <a:gridCol w="1482480"/>
                <a:gridCol w="1481400"/>
                <a:gridCol w="14824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真光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十五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八十六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仲元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番禺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都秀全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城中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9" name=""/>
          <p:cNvGraphicFramePr/>
          <p:nvPr/>
        </p:nvGraphicFramePr>
        <p:xfrm>
          <a:off x="4648320" y="1600200"/>
          <a:ext cx="4038480" cy="51753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62064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12952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762360" cy="7621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5112000" cy="14400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4"/>
          <a:stretch/>
        </p:blipFill>
        <p:spPr>
          <a:xfrm>
            <a:off x="13716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 txBox="1"/>
          <p:nvPr/>
        </p:nvSpPr>
        <p:spPr>
          <a:xfrm>
            <a:off x="3352680" y="4114800"/>
            <a:ext cx="367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感谢家长光临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5"/>
          <a:stretch/>
        </p:blipFill>
        <p:spPr>
          <a:xfrm>
            <a:off x="0" y="4529160"/>
            <a:ext cx="2590920" cy="2328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 txBox="1"/>
          <p:nvPr/>
        </p:nvSpPr>
        <p:spPr>
          <a:xfrm>
            <a:off x="1619280" y="1052640"/>
            <a:ext cx="619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过去的一个半学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ff"/>
                </a:solidFill>
                <a:uFillTx/>
                <a:latin typeface="Comic Sans MS"/>
                <a:ea typeface="华文新魏"/>
              </a:rPr>
              <a:t>我     班     班   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2411280" y="836640"/>
            <a:ext cx="4465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班　长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庄 嘉 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团支书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刘    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副班长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梁珉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习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李西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纪律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徐淑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宣传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谢银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活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苏   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组织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陈婷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娱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舒   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体育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潘培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电教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李永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3720" y="2708280"/>
            <a:ext cx="45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 rot="5400000">
            <a:off x="-540360" y="3212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强有力的组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760" name=""/>
          <p:cNvSpPr txBox="1"/>
          <p:nvPr/>
        </p:nvSpPr>
        <p:spPr>
          <a:xfrm rot="5400000">
            <a:off x="5724360" y="328608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级的核心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692000" y="1267920"/>
            <a:ext cx="568332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华文宋体"/>
                <a:ea typeface="幼圆"/>
              </a:rPr>
              <a:t>语文</a:t>
            </a:r>
            <a:r>
              <a:rPr b="1" lang="zh-CN" sz="4400" spc="-1" strike="noStrike">
                <a:solidFill>
                  <a:srgbClr val="0000ff"/>
                </a:solidFill>
                <a:latin typeface="华文宋体"/>
                <a:ea typeface="幼圆"/>
              </a:rPr>
              <a:t>科</a:t>
            </a:r>
            <a:r>
              <a:rPr b="0" lang="zh-CN" sz="4400" spc="-1" strike="noStrike">
                <a:solidFill>
                  <a:srgbClr val="0066ff"/>
                </a:solidFill>
                <a:latin typeface="华文宋体"/>
                <a:ea typeface="幼圆"/>
              </a:rPr>
              <a:t>代表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华文琥珀"/>
              </a:rPr>
              <a:t>: 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夕茹</a:t>
            </a:r>
            <a:br>
              <a:rPr sz="4400"/>
            </a:b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幼圆"/>
              </a:rPr>
              <a:t>数</a:t>
            </a:r>
            <a:r>
              <a:rPr b="1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学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幼圆"/>
              </a:rPr>
              <a:t>科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代表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华文琥珀"/>
              </a:rPr>
              <a:t>: 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朱俊卫</a:t>
            </a:r>
            <a:br>
              <a:rPr sz="4400"/>
            </a:br>
            <a:r>
              <a:rPr b="1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英语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幼圆"/>
              </a:rPr>
              <a:t>科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代表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华文琥珀"/>
              </a:rPr>
              <a:t>: 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刘   卉</a:t>
            </a:r>
            <a:br>
              <a:rPr sz="4400"/>
            </a:br>
            <a:r>
              <a:rPr b="1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物理</a:t>
            </a:r>
            <a:r>
              <a:rPr b="1" lang="zh-CN" sz="4400" spc="-1" strike="noStrike">
                <a:solidFill>
                  <a:srgbClr val="6666ff"/>
                </a:solidFill>
                <a:latin typeface="Comic Sans MS"/>
                <a:ea typeface="幼圆"/>
              </a:rPr>
              <a:t>科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代表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华文琥珀"/>
              </a:rPr>
              <a:t>: 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蔡世杰</a:t>
            </a:r>
            <a:br>
              <a:rPr sz="4400"/>
            </a:br>
            <a:r>
              <a:rPr b="1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政治</a:t>
            </a:r>
            <a:r>
              <a:rPr b="1" lang="zh-CN" sz="4400" spc="-1" strike="noStrike">
                <a:solidFill>
                  <a:srgbClr val="6666ff"/>
                </a:solidFill>
                <a:latin typeface="Comic Sans MS"/>
                <a:ea typeface="幼圆"/>
              </a:rPr>
              <a:t>科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幼圆"/>
              </a:rPr>
              <a:t>代表</a:t>
            </a:r>
            <a:r>
              <a:rPr b="0" lang="zh-CN" sz="4400" spc="-1" strike="noStrike">
                <a:solidFill>
                  <a:srgbClr val="0066ff"/>
                </a:solidFill>
                <a:latin typeface="Comic Sans MS"/>
                <a:ea typeface="华文琥珀"/>
              </a:rPr>
              <a:t>: 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邓   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48769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447920"/>
            <a:ext cx="41907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38782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55120" y="549360"/>
            <a:ext cx="136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代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835280" y="5445000"/>
            <a:ext cx="5400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师的得力助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班级期中十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50920" y="961920"/>
          <a:ext cx="8424720" cy="5937480"/>
        </p:xfrm>
        <a:graphic>
          <a:graphicData uri="http://schemas.openxmlformats.org/drawingml/2006/table">
            <a:tbl>
              <a:tblPr/>
              <a:tblGrid>
                <a:gridCol w="576000"/>
                <a:gridCol w="1252800"/>
                <a:gridCol w="906480"/>
                <a:gridCol w="922320"/>
                <a:gridCol w="950760"/>
                <a:gridCol w="878040"/>
                <a:gridCol w="914400"/>
                <a:gridCol w="914400"/>
                <a:gridCol w="110952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9" name=""/>
          <p:cNvSpPr/>
          <p:nvPr/>
        </p:nvSpPr>
        <p:spPr>
          <a:xfrm>
            <a:off x="755640" y="162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李西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26920" y="21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庄嘉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00000" y="2708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陈婷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00000" y="32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蚁梓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58760" y="36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900000" y="3716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邓 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26920" y="422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林葆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041840" y="474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倪雪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08684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朱俊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1840" y="58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潘培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976320" y="63500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刘  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年级情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均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以上的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，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7.9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均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5-9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2.3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均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70-8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4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7380360" y="198900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667640" y="227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9640" y="3789360"/>
            <a:ext cx="6337440" cy="2519280"/>
          </a:xfrm>
          <a:prstGeom prst="irregularSeal2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自己的位置在哪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班级情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均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以上的只有两人，没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年级最高名次只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名，没人进入前三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均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以上的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名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70——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的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——7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的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以下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4000" y="260280"/>
            <a:ext cx="57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年级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名的同学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71640" y="292428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262584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李西贝   庄嘉伟   陈婷婷   蚁梓翘   邓 卉   林葆葆   倪雪杨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朱俊卫 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潘培杰   刘 卉   舒 岚   胡元杰   徐淑君  赵淼坚   梁珉珉   高夕茹  梁启豪  蔡树涛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5:54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6:55Z</dcterms:modified>
  <cp:revision>12</cp:revision>
  <dc:subject>主题班会课件(分28大类): http://shop62905894.taobao.com</dc:subject>
  <dc:title>主题班会课件(分28大类): http://shop62905894.taobao.com</dc:title>
</cp:coreProperties>
</file>